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4E800-5E65-4A62-928F-543450F73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485C2-1D37-42C5-BFFC-FAE88361B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2C2AB-0E8C-41F9-876B-DE669D5A1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43FC5-0CEA-4B88-8604-0CFF40699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41B95-5922-49BE-80A6-3C34EF3A5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A130A-A34D-491D-9275-5B05A376A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9E408-EE8E-445A-8FEC-E71C07834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9B3B6-F7B0-436A-B25E-A54D1F156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BCF10-6CB1-423A-B2C5-00C4835E4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EC2BE-8857-45F6-9CF8-342C73E81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250CA-D016-4260-90BB-F868BCFE7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79B0-7BB4-478E-AC33-B431684A5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907FC-732B-4585-AB48-F6F67888B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600E6-3C44-4108-A770-AA8EFB5DB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7F42A-E975-43A9-B3B7-0DE89DA96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F9A8F-541A-4EA5-9AA0-CD48A8EE0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BEFE2-9483-4B97-A88F-98FB40996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160F00-505F-4BA7-8CE7-2B549D87CE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ADAB3-3DB6-46D3-8742-AFDCC16BC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22BD66-16A9-4DF8-BCA2-C65AEF9D4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CB393-6B1D-4C0B-9830-530730626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F8013-CE86-4D5B-91AC-B1AA9A2DA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B67A4-305C-473D-AC1F-B4E5EE937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ADD63-7B99-4271-8698-857FEA8E1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7DCDD-987C-45BE-9628-8281E117A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2F3B3-422E-475A-A3FC-ECA94394B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89C70-D4EC-4C2D-A57B-9F4B1BDE3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D7F39-9EFB-4FD3-A66A-D07859DD7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E3C6A-FC2F-444B-8582-D6FCC46746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19D8B-CCED-4B90-93DD-A6BA5035FA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069C4A-0D04-4655-A432-52551A220E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4CFFB5-E0B2-455B-9B46-CD3752C83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7608A-C713-4401-ACA1-88597AE16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9A1A-0C28-4FF4-AE90-F2D043868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BB9FC-35C3-4C21-BC2F-4D8A782B9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0CF04-4F00-4385-BEDB-B61316867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608AF-276C-4005-BE3E-ACFBEB197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C99F5-06FF-4E5C-A561-C158C38E3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6CAE2-D23B-4533-975B-83194FDB0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811D9-7999-47C4-84C0-2C4E8056B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28B43-776D-43A7-9743-39F7ADE8C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CCF6E2-E618-4953-841F-ABA40D4B66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93BDCA-C965-4327-9194-EF1D384C8C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D7ADBB-06F5-41F7-86C5-C7E7F4BF22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2B3D4-DC67-489B-B5CE-EED852EE4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3357D0-B103-48E1-B588-840434A8E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8C685-66AB-44E7-8CE7-556830CCAE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A1C8E-77F0-4AA2-B298-4BF688C438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0C629-3A5C-4ECB-9803-60347B747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FCAD81-065F-45A3-9529-339A8B09D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FB8B6-9E5A-4B0A-9534-16B42E3BF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29CA4-4DF1-4EE3-8D45-B79869041C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79A51-E548-4CB5-B059-B32B0612D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31771-5850-45B5-8E23-93B7EE5E2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115044-F877-43B7-BF9C-2CCEA28264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754C8-D44E-4BA2-A66F-382E372E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ACE58-F740-4A42-A708-523A0DE3C4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C974-2031-4E1C-A169-CFDFF3006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7B57-1C2A-4AA1-8127-C64CA58DA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8FB4-F668-465C-9B93-BE354ECFD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FC1C-488B-42B5-A9DF-BB81A846799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5CE7-FFE0-4309-87A5-EFDD1A361D2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6ACC-7640-4174-BC3B-BF082A06D3D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EFEF-887E-4B4C-BEAC-199001D496E6}"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1C38-EACE-47E9-9710-0F819737671B}"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65640" y="536400"/>
            <a:ext cx="5529240" cy="319428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324000"/>
            <a:ext cx="7486560" cy="14317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oking for similarities/tren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 Both Ancient Egypt and Sumeria had similar geographical benefits such as fertile soil created by major rivers.  Egypt had the “Life blood” of the Nile while the Tigris and Euphrates rivers created the Fertile Crescen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7"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12760" y="324000"/>
            <a:ext cx="7486560" cy="14317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ws the differences or unique quali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 Although both Mesopotamia and Egypt were ruled by kings and priests, the power each leader had was distinct.  Mesopotamian kings were really powerful but had control over one major city or region while Egyptian pharaohs were considered living gods and had total power and would rule in this life and the nex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01:36:41Z</dcterms:created>
  <dc:creator>Kuenzi</dc:creator>
  <dc:description/>
  <dc:language>en-US</dc:language>
  <cp:lastModifiedBy>Kuenzi</cp:lastModifiedBy>
  <dcterms:modified xsi:type="dcterms:W3CDTF">2014-10-15T12:44:37Z</dcterms:modified>
  <cp:revision>6</cp:revision>
  <dc:subject/>
  <dc:title>Making Inferences</dc:title>
</cp:coreProperties>
</file>